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9FCF-CDC7-4366-8F46-CC634F179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294A-6C63-4FAD-8252-DDA326EF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5EFF-6B55-4CB0-A695-F54BF65B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97D2-9C87-4315-A0E7-26D67717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5A4F-1C69-4312-A07F-1C91D711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95DA-A141-4117-AC73-E0F71FC1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307D-C4B1-4B1A-B712-EF112AAA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470D-B907-4950-8B55-12EB9C9B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F4CB-2AE9-4644-BBAD-B1A054A3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9705-9BFF-41AD-8D4D-3B4774EC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6E50-3BA3-4FF3-B81C-68525A0E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F855-F4C7-4ACB-BDBF-EE3FD25B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BC6E-03DE-4EE2-8806-627A7194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3F58-C9EA-4F83-A63F-13510CBA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455D-AAD0-471B-B107-DFBA9C8E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5DD7-34A6-4EC5-8EAD-C926EBA2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DFCA-0249-4EF0-BF19-30523AAF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244C-17A1-4652-8F1D-9EAC460D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34F3-0D41-42D3-B184-0A322168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99F9-D8F2-42EE-A2EA-E9D67D2E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EC91-A01C-4C13-8564-D31F75D9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E2F2-EFCE-4625-A8AA-7A43360D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BA9B-CC5A-4F2B-A9CC-46BF95F8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121C-0EA5-42A4-B384-0C724D5B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FC19-08C0-40EB-A1CA-84EADE7E6161}" type="slidenum">
              <a:rPr b="0" lang="en-A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FE21-F3BB-4404-9D1D-DD028AABCD5F}" type="slidenum">
              <a:rPr b="0" lang="en-A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43000" y="457200"/>
            <a:ext cx="76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Verdana"/>
              </a:rPr>
              <a:t>1  Networks, advantages &amp; types of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838080" y="2666880"/>
            <a:ext cx="76201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hat is a network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wo or more computers that are interconnected so they can exchange data, information &amp; resources. A networked connection allows computer to communicate with other devi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ocial networking sites allow users to exchange inform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Using groupware enables people to work on same project at same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371600" y="76212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</a:rPr>
              <a:t>Client/Server: types of serve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71640" y="1836720"/>
            <a:ext cx="7921440" cy="53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AU" sz="2800" spc="-1" strike="noStrike">
                <a:solidFill>
                  <a:srgbClr val="000000"/>
                </a:solidFill>
                <a:latin typeface="Tahoma"/>
              </a:rPr>
              <a:t>proxy server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is a server that acts as an intermediary for requests from clients seeking resources from other servers. A client connects to the proxy server, requesting some service, such as a file, connection, web page, or other resource, available from a different serv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the computer in the middle acts as the proxy server between the other tw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3" descr="350px-Schematic_Proxy_Server_svg.png"/>
          <p:cNvPicPr/>
          <p:nvPr/>
        </p:nvPicPr>
        <p:blipFill>
          <a:blip r:embed="rId1"/>
          <a:stretch/>
        </p:blipFill>
        <p:spPr>
          <a:xfrm>
            <a:off x="2714760" y="4572000"/>
            <a:ext cx="333360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37160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ahoma"/>
              </a:rPr>
              <a:t>Client/Server: types of serv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71640" y="1836720"/>
            <a:ext cx="7921440" cy="18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28760" y="2071800"/>
            <a:ext cx="8072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 proxy server has a large variety of potential purposes,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o keep machines behind it anonymous, (secur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o speed up access to resources (using caching). Web proxies are commonly used to cache web pages from a web ser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o apply access policy to network services or content, e.g. to block undesired sit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o log / audit usage, i.e. to provide company employee Internet usage reporting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o bypass security/ parental contro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o scan transmitted content for malware before deliver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371600" y="76212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</a:rPr>
              <a:t>Peer-to-Peer network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143000" y="2270160"/>
            <a:ext cx="760572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computer on network shares its hardware and software with all other computers on the net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 server, so costs are low and installation is si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l computers and users have equal authority and righ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ittle protection of one workstation against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 Used at home or in small organisations with trusted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 Allows sharing of files, internet connection, prin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295280" y="9144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ahoma"/>
              </a:rPr>
              <a:t>Internet Peer to Pe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1752480"/>
            <a:ext cx="71629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- Users must enable their computer to be accessed by others over the internet. This allows copying of files from one hard drive to another via the intern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nternet music sharing networks such as BitTorrent, Limewire &amp; Kazza are software applications that support peer-to-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is style of network can expose your computer to possible security viol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371600" y="81612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Tahoma"/>
              </a:rPr>
              <a:t>Intranet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143000" y="189072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403280" y="2057400"/>
            <a:ext cx="712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internal secured environment that has a similar look and feel of the internet, but operates as a LAN (ie: within one organisa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nefit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 to info is control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s communication within an organis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s costs as requires less paper doc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cuments are easier to find and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ss document maintenance is requir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219320" y="9907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dvantages of a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219320" y="2209680"/>
            <a:ext cx="670536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1 Resource sha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Arial"/>
              </a:rPr>
              <a:t>Interne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Arial"/>
              </a:rPr>
              <a:t>Pri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Arial"/>
              </a:rPr>
              <a:t>Other resources including network-attached storage (NAS) servers; (device providing file based storage to other devices connect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emote Services: ordering through the internet or in a B2B situation; where customer enters &amp; checks data to make order; ATM eg. of remot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026"/>
          <p:cNvSpPr/>
          <p:nvPr/>
        </p:nvSpPr>
        <p:spPr>
          <a:xfrm>
            <a:off x="1752480" y="404640"/>
            <a:ext cx="61772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ahoma"/>
              </a:rPr>
              <a:t>Advantages of a network, cont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1027"/>
          <p:cNvSpPr/>
          <p:nvPr/>
        </p:nvSpPr>
        <p:spPr>
          <a:xfrm>
            <a:off x="1042920" y="1919160"/>
            <a:ext cx="8101080" cy="16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ahom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Sharing information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collaborative documents, intranet, group calendaring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ahom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Facilitating communications – email, chat, videoconferenc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ahom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Security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password protection, backu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026"/>
          <p:cNvSpPr/>
          <p:nvPr/>
        </p:nvSpPr>
        <p:spPr>
          <a:xfrm>
            <a:off x="1295280" y="9144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ahoma"/>
              </a:rPr>
              <a:t>Types of networks - by siz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1027"/>
          <p:cNvSpPr/>
          <p:nvPr/>
        </p:nvSpPr>
        <p:spPr>
          <a:xfrm>
            <a:off x="990720" y="2286000"/>
            <a:ext cx="7162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0000"/>
                </a:solidFill>
                <a:latin typeface="Tahoma"/>
              </a:rPr>
              <a:t>Local Area Network</a:t>
            </a:r>
            <a:r>
              <a:rPr b="0" lang="en-AU" sz="2400" spc="-1" strike="noStrike">
                <a:solidFill>
                  <a:srgbClr val="ff0000"/>
                </a:solidFill>
                <a:latin typeface="Tahoma"/>
              </a:rPr>
              <a:t> (LAN)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– typically restricted to one building or one site (eg: Wedderburn Colle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0000"/>
                </a:solidFill>
                <a:latin typeface="Tahoma"/>
              </a:rPr>
              <a:t>Wide Area Network</a:t>
            </a:r>
            <a:r>
              <a:rPr b="0" lang="en-AU" sz="2400" spc="-1" strike="noStrike">
                <a:solidFill>
                  <a:srgbClr val="ff0000"/>
                </a:solidFill>
                <a:latin typeface="Tahoma"/>
              </a:rPr>
              <a:t> (WAN)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– spread over wide distances (eg: Commonwealth Ba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0000"/>
                </a:solidFill>
                <a:latin typeface="Tahoma"/>
              </a:rPr>
              <a:t>Internet</a:t>
            </a:r>
            <a:r>
              <a:rPr b="0" lang="en-A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– the Network of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295280" y="9144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ahoma"/>
              </a:rPr>
              <a:t>LANs – Local Area Network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990720" y="2286000"/>
            <a:ext cx="71625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Geographically limited, usually to one site, for example a building or campu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raditionally were all cabled but now often use wireless technolog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Distances between buildings dictate the type of communication media used (fibre optic, radio link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reless LAN uses radio waves, satellite, microwave to transmit signals between no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026"/>
          <p:cNvSpPr/>
          <p:nvPr/>
        </p:nvSpPr>
        <p:spPr>
          <a:xfrm>
            <a:off x="1295280" y="9144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ahoma"/>
              </a:rPr>
              <a:t>WANs – Wide Area Network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1027"/>
          <p:cNvSpPr/>
          <p:nvPr/>
        </p:nvSpPr>
        <p:spPr>
          <a:xfrm>
            <a:off x="990720" y="1857240"/>
            <a:ext cx="7724520" cy="45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Tahoma"/>
              </a:rPr>
              <a:t>Wide Area Network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(WAN) – broad geographic coverage (e.g. state-wide, country-wide, internationa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Communications carried by a medium owned by someone who is not part of the organisation whose data is being transmit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Transmission media include microwave, fibre-optic, telephone lines &amp; sattelli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WANs includ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6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  <a:ea typeface="Arial"/>
              </a:rPr>
              <a:t>M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6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  <a:ea typeface="Arial"/>
              </a:rPr>
              <a:t>Statewide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6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  <a:ea typeface="Arial"/>
              </a:rPr>
              <a:t>National are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6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  <a:ea typeface="Arial"/>
              </a:rPr>
              <a:t>World wide network, eg. 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6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295280" y="40464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ahoma"/>
              </a:rPr>
              <a:t>Types of networks - by architectur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90720" y="2286000"/>
            <a:ext cx="71625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rchitecture:  design of a computer network; way in which they are connec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lient / Server – one machine (the server) serves out data or files to a number of other machines (cli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eer to Peer – all devices are at the same level, no ser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nternet Peer to Peer – allows users to connect to someone else’s computer over the intern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371600" y="76212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000080" y="1643040"/>
            <a:ext cx="8001000" cy="63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e computer program (the ‘client’) asks another computer program (the ‘server’) to provide a service, such as looking up and providing data, delivering email, sending web pages, bank balances etc.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erver is a larger, faster more expensive computer that is designed to handle a number of tasks at once. All  server s.ware is multi-tasking; (able to process instructions from more than 1 program at the same tim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different types of serv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63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ile servers, store files for use on client comput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63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pplication servers, store applications  to enable clients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63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371600" y="76212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</a:rPr>
              <a:t>Client/Server: types of serve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971640" y="1836720"/>
            <a:ext cx="7921440" cy="65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20720" indent="-26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servers, accepts print jobs over the network faster than a printer; workstation gets on with other tasks whilst printing is do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6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base server; hold d/bases and allows them to be used by many us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6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b servers, connected to internet and serve webpages to view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6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Domain name servers, (DNS’s); translate domain names into IP addresses; browsers request the DNS to provide the IP address so that it can locate website or mail serv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6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host configuration protocol server, (DHCP), hqnd out the node number to each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6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e Directory Domain controller, server running AD Dservices; stores directory data &amp; manages communication b/ween users &amp; domains including login processes, authentication &amp; search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6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Virtual server; software partitions a single server so that it operates as several serv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63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02:13:48Z</dcterms:created>
  <dc:creator>kel</dc:creator>
  <dc:description/>
  <dc:language>en-US</dc:language>
  <cp:lastModifiedBy>01421606</cp:lastModifiedBy>
  <dcterms:modified xsi:type="dcterms:W3CDTF">2010-12-30T00:37:54Z</dcterms:modified>
  <cp:revision>53</cp:revision>
  <dc:subject/>
  <dc:title>PowerPoint Presentation</dc:title>
</cp:coreProperties>
</file>